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56F-31FF-4770-AD42-C20EB71E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99C-C07E-4692-B356-34138F99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885-45C0-4300-9D81-DD220E86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C99-246D-47D0-9766-9E4C5AF3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7DD-8FDB-4391-8EFF-B7F77E2B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70F-7A32-47E9-938F-39BDD2D9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C14-290A-46E3-80D4-4DDFDC48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A03-BA45-4061-A1B6-CB049844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F57-B220-489F-BF12-A80BD6B6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DA7-E3E1-42B0-B08E-4D4D8033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3AD-0B54-4A76-8768-799FEE69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F43-77B1-40C6-AD53-7AFE2DA6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F6FC-9AF7-4381-BAD9-E8FC40C2A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993300"/>
                </a:solidFill>
                <a:latin typeface="Arial"/>
              </a:rPr>
              <a:t>Te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14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3300"/>
                </a:solidFill>
                <a:latin typeface="Arial"/>
              </a:rPr>
              <a:t>El control microbial de artrópodos  y el control biológico de patógenos vegeta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993300"/>
                </a:solidFill>
                <a:latin typeface="Arial"/>
              </a:rPr>
              <a:t>Bacillus thuringien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diferentes subespecie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ifieren en su espectro de acción tóxica, por lo que se propuso separarlas en patotip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totipo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cluye las razas O CEPAS que son patógenas para insectos del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Lepidopter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totipo B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cluye a las que resultan patógenas para insectos del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Dipt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totipo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cluye las razas que infectan insectos del orden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oleo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uerpo parasporal varía en su forma al variar el patotipo de la bacte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sta 1997 se habían identificado 63 raza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acuerdo al serotipo H (Thiery y Frachon, 199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acillus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640080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00"/>
                </a:solidFill>
                <a:latin typeface="Arial"/>
              </a:rPr>
              <a:t>Esporangios, esporas y cristales de </a:t>
            </a:r>
            <a:r>
              <a:rPr b="1" i="1" lang="es-MX" sz="2500" spc="-1" strike="noStrike">
                <a:solidFill>
                  <a:srgbClr val="ffff00"/>
                </a:solidFill>
                <a:latin typeface="Arial"/>
              </a:rPr>
              <a:t>Bacillus thuringien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5410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3300"/>
                </a:solidFill>
                <a:latin typeface="Arial"/>
              </a:rPr>
              <a:t>Esporangio de </a:t>
            </a:r>
            <a:r>
              <a:rPr b="1" i="1" lang="es-MX" sz="2800" spc="-1" strike="noStrike">
                <a:solidFill>
                  <a:srgbClr val="993300"/>
                </a:solidFill>
                <a:latin typeface="Arial"/>
              </a:rPr>
              <a:t>Bacillus thuringiensis</a:t>
            </a:r>
            <a:r>
              <a:rPr b="1" lang="es-MX" sz="2800" spc="-1" strike="noStrike">
                <a:solidFill>
                  <a:srgbClr val="993300"/>
                </a:solidFill>
                <a:latin typeface="Arial"/>
              </a:rPr>
              <a:t> mostrando la endospora y el cristal prote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bt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3914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146600" y="114300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ENDOS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50120" y="1066680"/>
            <a:ext cx="31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ff"/>
                </a:solidFill>
                <a:latin typeface="Arial"/>
              </a:rPr>
              <a:t>CRISTAL PROTE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ryst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Cristales proteicos purificados de </a:t>
            </a: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Bacillus thuringien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44680"/>
                <a:gridCol w="1442880"/>
                <a:gridCol w="3200400"/>
                <a:gridCol w="3056040"/>
              </a:tblGrid>
              <a:tr h="1373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Nomenclatura del gen para el cristal proteico de  </a:t>
                      </a:r>
                      <a:r>
                        <a:rPr b="1" i="1" lang="en-US" sz="28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Bacillus thuringiensis</a:t>
                      </a:r>
                      <a:r>
                        <a:rPr b="1" lang="en-US" sz="28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 (Bt) y espectro de acción contra insec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G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Proteína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Subespecie (cepa)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Espectro de acción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 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stak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HD-1), Aizawai, Sot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pidopt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 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stak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HD-1),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stak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HD-26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pidopter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y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pter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mosqui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ebrion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optera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crisomélid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I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ponen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optera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escarabaj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 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MX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raelien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pter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osquitos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scas negr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T_ECB"/>
          <p:cNvPicPr/>
          <p:nvPr/>
        </p:nvPicPr>
        <p:blipFill>
          <a:blip r:embed="rId1"/>
          <a:stretch/>
        </p:blipFill>
        <p:spPr>
          <a:xfrm>
            <a:off x="0" y="0"/>
            <a:ext cx="9144000" cy="5745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759280"/>
            <a:ext cx="9144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993300"/>
                </a:solidFill>
                <a:latin typeface="Arial"/>
              </a:rPr>
              <a:t>Larvas del bórer europeo del maíz infectadas con </a:t>
            </a:r>
            <a:r>
              <a:rPr b="1" i="1" lang="es-MX" sz="3300" spc="-1" strike="noStrike">
                <a:solidFill>
                  <a:srgbClr val="993300"/>
                </a:solidFill>
                <a:latin typeface="Arial"/>
              </a:rPr>
              <a:t>Bacillus thuringiens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993300"/>
                </a:solidFill>
                <a:latin typeface="Arial"/>
              </a:rPr>
              <a:t>Mecanismos de infección</a:t>
            </a:r>
            <a:r>
              <a:rPr b="0" lang="es-ES_tradnl" sz="7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993300"/>
                </a:solidFill>
                <a:latin typeface="Arial"/>
              </a:rPr>
              <a:t>Producción de toxin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na de las características más notables de </a:t>
            </a:r>
            <a:r>
              <a:rPr b="1" i="1" lang="es-ES" sz="4000" spc="-1" strike="noStrike">
                <a:solidFill>
                  <a:srgbClr val="993300"/>
                </a:solidFill>
                <a:latin typeface="Arial"/>
              </a:rPr>
              <a:t>B. thuringiens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2"/>
          <p:cNvSpPr/>
          <p:nvPr/>
        </p:nvSpPr>
        <p:spPr>
          <a:xfrm>
            <a:off x="304920" y="533520"/>
            <a:ext cx="3255840" cy="216036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80880" y="1371600"/>
            <a:ext cx="3048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α-exotox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"/>
          <p:cNvSpPr/>
          <p:nvPr/>
        </p:nvSpPr>
        <p:spPr>
          <a:xfrm>
            <a:off x="5638680" y="457200"/>
            <a:ext cx="3251160" cy="21607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304920" y="4495680"/>
            <a:ext cx="3173400" cy="216072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3124080" y="2895480"/>
            <a:ext cx="266724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124080" y="3048120"/>
            <a:ext cx="266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1eras. TOXINAS identificadas de </a:t>
            </a:r>
            <a:r>
              <a:rPr b="1" i="1" lang="es-ES" sz="22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3429000" y="-663480"/>
            <a:ext cx="6207120" cy="8053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457200" y="5181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δ-endotox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5791320" y="1295280"/>
            <a:ext cx="2971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β-exotox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4"/>
          <p:cNvSpPr/>
          <p:nvPr/>
        </p:nvSpPr>
        <p:spPr>
          <a:xfrm>
            <a:off x="5638680" y="4419720"/>
            <a:ext cx="3256200" cy="216036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5715000" y="51055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γ-exotox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 flipH="1" flipV="1">
            <a:off x="3048120" y="2438280"/>
            <a:ext cx="38088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 flipH="1" flipV="1">
            <a:off x="2895120" y="2438280"/>
            <a:ext cx="38124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 flipV="1">
            <a:off x="5638680" y="2361960"/>
            <a:ext cx="457200" cy="5331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0"/>
          <p:cNvSpPr/>
          <p:nvPr/>
        </p:nvSpPr>
        <p:spPr>
          <a:xfrm>
            <a:off x="5638680" y="4343400"/>
            <a:ext cx="38124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1"/>
          <p:cNvSpPr/>
          <p:nvPr/>
        </p:nvSpPr>
        <p:spPr>
          <a:xfrm flipH="1">
            <a:off x="2819520" y="4267080"/>
            <a:ext cx="38088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3300"/>
                </a:solidFill>
                <a:latin typeface="Arial"/>
                <a:ea typeface="Arial"/>
              </a:rPr>
              <a:t>β</a:t>
            </a: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-exotox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xina termoestable, secretada por algunas variedades durante la fase de crecimiento vegeta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ida como: «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ctor mos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x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s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», «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x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rmoestabl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», “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xina estable al calo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» y «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huringiensi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pacidad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ara producirla hace que su radio de acción sea más ampl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portan especies susceptibles a </a:t>
            </a: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β-exotoxi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los órdenes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Di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Lepido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Hymeno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Coleo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Isopter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Orthopt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estado larval de los insectos es siempre más susceptible que el estado adulto (Habib y Andrade, 199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5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_tradnl" sz="5400" spc="-1" strike="noStrike">
                <a:solidFill>
                  <a:srgbClr val="993300"/>
                </a:solidFill>
                <a:latin typeface="Arial"/>
              </a:rPr>
              <a:t>Control microbial de artrópodos: </a:t>
            </a:r>
            <a:br>
              <a:rPr sz="5400"/>
            </a:br>
            <a:r>
              <a:rPr b="1" lang="es-ES_tradnl" sz="4800" spc="-1" strike="noStrike">
                <a:solidFill>
                  <a:srgbClr val="993300"/>
                </a:solidFill>
                <a:latin typeface="Arial"/>
              </a:rPr>
              <a:t>Bacterias entomopatógen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Arial"/>
              </a:rPr>
              <a:t>β-exotoxin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también resulta letal para insectos pertenecientes a los órdenes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Hemipter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Neuropter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, donde se ubican enemigos naturales que pueden afectarse, razón por la cual el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radio de acción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tan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ampli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es un elemento importante a tener en cuenta en el manejo de plag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Por ejempl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ha verificado que las larvas de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Chrysoperla carne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Stephens (=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Chrysop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) mueren después de ingerir huevos de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Sitotroga cerealell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tratados con la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β-exotoxina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 mismo ocurre a chinches que se alimentaron con larvas de 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Helicoverpa zea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(=</a:t>
            </a:r>
            <a:r>
              <a:rPr b="1" i="1" lang="es-ES" sz="3000" spc="-1" strike="noStrike">
                <a:solidFill>
                  <a:srgbClr val="000000"/>
                </a:solidFill>
                <a:latin typeface="Arial"/>
              </a:rPr>
              <a:t>Heliothi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) (Kiselev, 1975 citado por Tanada y Kaya, 1993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La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β-exotoxina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posee propiedades </a:t>
            </a: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mutagénicas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y </a:t>
            </a:r>
            <a:r>
              <a:rPr b="1" lang="es-ES" sz="3200" spc="-1" strike="noStrike">
                <a:solidFill>
                  <a:srgbClr val="993300"/>
                </a:solidFill>
                <a:latin typeface="Arial"/>
              </a:rPr>
              <a:t>teratogénicas 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y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es tóxica a los vertebrados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las subespecies que la producen no se tienen en cuenta en la mayoría de las formulaciones comerciales de </a:t>
            </a:r>
            <a:r>
              <a:rPr b="1" i="1" lang="es-ES" sz="3200" spc="-1" strike="noStrike">
                <a:solidFill>
                  <a:srgbClr val="993300"/>
                </a:solidFill>
                <a:latin typeface="Arial"/>
              </a:rPr>
              <a:t>B. thuringiensis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  (Tanada y Kaya, 1993; Habib y Andrade, 1998).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Existe heterogeneidad entre las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β-exotoxinas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40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s-E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diferencias de toxicidad hacia diferentes organismos plaga y los mamíferos </a:t>
            </a:r>
            <a:r>
              <a:rPr b="0" lang="es-ES" sz="40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sea tan importante su identificación (Carreras </a:t>
            </a:r>
            <a:r>
              <a:rPr b="0" i="1" lang="es-ES" sz="3200" spc="-1" strike="noStrike">
                <a:solidFill>
                  <a:srgbClr val="993300"/>
                </a:solidFill>
                <a:latin typeface="Arial"/>
              </a:rPr>
              <a:t>et al.,</a:t>
            </a:r>
            <a:r>
              <a:rPr b="0" lang="es-ES" sz="3200" spc="-1" strike="noStrike">
                <a:solidFill>
                  <a:srgbClr val="993300"/>
                </a:solidFill>
                <a:latin typeface="Arial"/>
              </a:rPr>
              <a:t> 199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3300"/>
                </a:solidFill>
                <a:latin typeface="Arial"/>
              </a:rPr>
              <a:t>δ-endotox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más importan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ntetizada en forma de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rotoxina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durante el proceso de esporulación dentro de la célula vegetativ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protoxina aparece como una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clusión cristalina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y se considera una característica constante para las diferentes variedades de </a:t>
            </a:r>
            <a:r>
              <a:rPr b="1" i="1" lang="es-ES" sz="40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993300"/>
                </a:solidFill>
                <a:latin typeface="Arial"/>
              </a:rPr>
              <a:t>Modo de acción de la</a:t>
            </a:r>
            <a:r>
              <a:rPr b="1" lang="es-ES" sz="6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s-ES" sz="6600" spc="-1" strike="noStrike">
                <a:solidFill>
                  <a:srgbClr val="ff3300"/>
                </a:solidFill>
                <a:latin typeface="Arial"/>
              </a:rPr>
              <a:t>δ-endotoxina</a:t>
            </a:r>
            <a:r>
              <a:rPr b="0" lang="es-ES" sz="6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nque se puede explicar mediante varias hipótesis, a continuación se describe el proceso de forma general y simplifica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6"/>
          <p:cNvGrpSpPr/>
          <p:nvPr/>
        </p:nvGrpSpPr>
        <p:grpSpPr>
          <a:xfrm>
            <a:off x="0" y="0"/>
            <a:ext cx="9142560" cy="6856920"/>
            <a:chOff x="0" y="0"/>
            <a:chExt cx="9142560" cy="6856920"/>
          </a:xfrm>
        </p:grpSpPr>
        <p:cxnSp>
          <p:nvCxnSpPr>
            <p:cNvPr id="112" name="_s2052"/>
            <p:cNvCxnSpPr>
              <a:stCxn id="113" idx="1"/>
              <a:endCxn id="114" idx="2"/>
            </p:cNvCxnSpPr>
            <p:nvPr/>
          </p:nvCxnSpPr>
          <p:spPr>
            <a:xfrm rot="10800000">
              <a:off x="2742120" y="1245960"/>
              <a:ext cx="914760" cy="498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2053"/>
            <p:cNvCxnSpPr>
              <a:stCxn id="116" idx="1"/>
              <a:endCxn id="114" idx="2"/>
            </p:cNvCxnSpPr>
            <p:nvPr/>
          </p:nvCxnSpPr>
          <p:spPr>
            <a:xfrm rot="10800000">
              <a:off x="2742120" y="1245960"/>
              <a:ext cx="914760" cy="311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054"/>
            <p:cNvCxnSpPr>
              <a:stCxn id="118" idx="1"/>
              <a:endCxn id="114" idx="2"/>
            </p:cNvCxnSpPr>
            <p:nvPr/>
          </p:nvCxnSpPr>
          <p:spPr>
            <a:xfrm rot="10800000">
              <a:off x="2742120" y="1245960"/>
              <a:ext cx="914760" cy="124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_s2055"/>
            <p:cNvSpPr/>
            <p:nvPr/>
          </p:nvSpPr>
          <p:spPr>
            <a:xfrm>
              <a:off x="0" y="0"/>
              <a:ext cx="5485680" cy="124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993300"/>
                  </a:solidFill>
                  <a:latin typeface="Arial"/>
                </a:rPr>
                <a:t>La larva ingiere la protox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56"/>
            <p:cNvSpPr/>
            <p:nvPr/>
          </p:nvSpPr>
          <p:spPr>
            <a:xfrm>
              <a:off x="3656880" y="1869840"/>
              <a:ext cx="5485680" cy="124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La protoxina se solubiliza en 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ambiente alcalino del intesti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057"/>
            <p:cNvSpPr/>
            <p:nvPr/>
          </p:nvSpPr>
          <p:spPr>
            <a:xfrm>
              <a:off x="3656880" y="3740040"/>
              <a:ext cx="5485680" cy="124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500" spc="-1" strike="noStrike">
                  <a:solidFill>
                    <a:srgbClr val="000000"/>
                  </a:solidFill>
                  <a:latin typeface="Arial"/>
                </a:rPr>
                <a:t>La protoxina es procesada a la forma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500" spc="-1" strike="noStrike">
                  <a:solidFill>
                    <a:srgbClr val="000000"/>
                  </a:solidFill>
                  <a:latin typeface="Arial"/>
                </a:rPr>
                <a:t>tóxica por la acción de las proteasas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500" spc="-1" strike="noStrike">
                  <a:solidFill>
                    <a:srgbClr val="000000"/>
                  </a:solidFill>
                  <a:latin typeface="Arial"/>
                </a:rPr>
                <a:t>digestivas del insecto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058"/>
            <p:cNvSpPr/>
            <p:nvPr/>
          </p:nvSpPr>
          <p:spPr>
            <a:xfrm>
              <a:off x="3656880" y="5610240"/>
              <a:ext cx="5485680" cy="1246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Posteriormente, ocurre la unión de las toxina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a receptores que se encuentran en la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100" spc="-1" strike="noStrike">
                  <a:solidFill>
                    <a:srgbClr val="000000"/>
                  </a:solidFill>
                  <a:latin typeface="Arial"/>
                </a:rPr>
                <a:t>membrana intestinal del insecto susceptibl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n ensayos realizados se ha demostrado qu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xiste una correlación estricta entre la unión de las toxinas al receptor del insecto blanco y la toxicid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o es suficiente que la toxina se una al receptor para que mate al insecto, lo cual quiere decir que existen otros factores involucrados en el mecanismo de acción de la tox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-6480" y="21600"/>
            <a:ext cx="9149040" cy="1369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Unión entre toxina y receptor desequilibra la estructura de la membrana y «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abre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» un poro por el que penetran cationes, seguidos de agu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52560" y="1671480"/>
            <a:ext cx="9091440" cy="981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xceso de agua en el citoplasma de las células epiteliales provoca distensión hasta que la célula se rom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0" y="2967480"/>
            <a:ext cx="9144000" cy="14202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tenido del mesenteron (altamente alcalino) pasa a la hemolinfa (con pH casi neutro) a la vez que la hemolinfa va hacia el lumen del mesenter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0" y="4719240"/>
            <a:ext cx="9093240" cy="9817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umento de pH de la hemolinfa </a:t>
            </a:r>
            <a:r>
              <a:rPr b="1" lang="es-ES" sz="26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paralización de la larva, al cesar la conducción nervio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743360" y="2898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0" y="5950080"/>
            <a:ext cx="9086760" cy="91404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disminuir pH del contenido estomacal </a:t>
            </a:r>
            <a:r>
              <a:rPr b="0" lang="es-E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curre germinación de las esporas y se produce una </a:t>
            </a:r>
            <a:r>
              <a:rPr b="1" lang="es-ES" sz="2400" spc="-1" strike="noStrike">
                <a:solidFill>
                  <a:srgbClr val="009900"/>
                </a:solidFill>
                <a:latin typeface="Arial"/>
              </a:rPr>
              <a:t>septic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4495680" y="137160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4495680" y="2590920"/>
            <a:ext cx="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4343400" y="571500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4419720" y="44197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3300"/>
                </a:solidFill>
                <a:latin typeface="Arial"/>
              </a:rPr>
              <a:t>Sintomatología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7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 necesita ser ingerido para que lleve a cabo su efecto tóxico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3300"/>
                </a:solidFill>
                <a:latin typeface="Arial"/>
              </a:rPr>
              <a:t>Primeros síntomas externos</a:t>
            </a: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Pérdida del apetito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Regurgitación y diarreas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Pérdida del brillo del tegumento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Disfunción intestina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Parálisis del tracto digestivo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ff3300"/>
                </a:solidFill>
                <a:latin typeface="Arial"/>
              </a:rPr>
              <a:t>Posteriormente</a:t>
            </a: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Las larvas pierden agilidad y el tegumento se torna de color marrón oscuro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l final, algunas larvas sufren parálisis total antes de morir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espués de la muerte -entre 18 y 72 horas- el cadáver adquiere </a:t>
            </a:r>
            <a:r>
              <a:rPr b="1" lang="es-ES" sz="3800" spc="-1" strike="noStrike">
                <a:solidFill>
                  <a:srgbClr val="009999"/>
                </a:solidFill>
                <a:latin typeface="Arial"/>
              </a:rPr>
              <a:t>coloración oscura</a:t>
            </a: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 y los tejidos se descomponen rápidamente (Habib y Andrade, 1984)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3300"/>
                </a:solidFill>
                <a:latin typeface="Arial"/>
              </a:rPr>
              <a:t>Síntomas Internos</a:t>
            </a:r>
            <a:r>
              <a:rPr b="1" lang="es-ES" sz="4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4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Arial"/>
              </a:rPr>
              <a:t>Estudios histopatológicos de células del epitelio intestinal permitieron conocer que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Arial"/>
              </a:rPr>
              <a:t>Ocurre degradación de las microvellosidades apical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Arial"/>
              </a:rPr>
              <a:t>Vacuolización del citoplasm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Arial"/>
              </a:rPr>
              <a:t>Lisis celular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993300"/>
                </a:solidFill>
                <a:latin typeface="Arial"/>
              </a:rPr>
              <a:t>Sumar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Bacterias entomopatógenas. Características generales.</a:t>
            </a:r>
            <a:r>
              <a:rPr b="0" lang="es-ES_tradnl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Clasificación. Mecanismos de infecció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Principales Familias, géneros y especies con potencialidad en el control microbial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92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192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192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192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92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92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192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192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92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192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192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192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993300"/>
                </a:solidFill>
                <a:latin typeface="Arial"/>
              </a:rPr>
              <a:t>Otras especi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993300"/>
                </a:solidFill>
                <a:latin typeface="Arial"/>
              </a:rPr>
              <a:t>Bacillus sphaericus</a:t>
            </a:r>
            <a:r>
              <a:rPr b="1" lang="es-ES" sz="4400" spc="-1" strike="noStrike">
                <a:solidFill>
                  <a:srgbClr val="993300"/>
                </a:solidFill>
                <a:latin typeface="Arial"/>
              </a:rPr>
              <a:t> N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on potencial en el control de plagas de interés en Salud Públic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Muy específico: limitado a larvas de mosquitos, especialmente del género </a:t>
            </a:r>
            <a:r>
              <a:rPr b="1" i="1" lang="es-ES" sz="2900" spc="-1" strike="noStrike">
                <a:solidFill>
                  <a:srgbClr val="000000"/>
                </a:solidFill>
                <a:latin typeface="Arial"/>
              </a:rPr>
              <a:t>Culex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Produce una protoxina de naturaleza proteica que debe ser ingerida por las larvas en su medio acuático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Su mecanismo de acción es muy similar al de </a:t>
            </a:r>
            <a:r>
              <a:rPr b="1" i="1" lang="es-ES" sz="29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rece fácilmente en medios artificiales y por su capacidad saprofítica se mantiene más tiempo en el hábitat acuático que las cepas de </a:t>
            </a:r>
            <a:r>
              <a:rPr b="1" i="1" lang="es-ES" sz="29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var. </a:t>
            </a:r>
            <a:r>
              <a:rPr b="1" i="1" lang="es-ES" sz="2900" spc="-1" strike="noStrike">
                <a:solidFill>
                  <a:srgbClr val="000000"/>
                </a:solidFill>
                <a:latin typeface="Arial"/>
              </a:rPr>
              <a:t>israelensis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993300"/>
                </a:solidFill>
                <a:latin typeface="Arial"/>
              </a:rPr>
              <a:t>Bacillus popilliae</a:t>
            </a:r>
            <a:r>
              <a:rPr b="1" lang="es-ES" sz="4400" spc="-1" strike="noStrike">
                <a:solidFill>
                  <a:srgbClr val="993300"/>
                </a:solidFill>
                <a:latin typeface="Arial"/>
              </a:rPr>
              <a:t> Dut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atógeno obligado, además específic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la «</a:t>
            </a:r>
            <a:r>
              <a:rPr b="1" lang="es-ES" sz="2500" spc="-1" strike="noStrike">
                <a:solidFill>
                  <a:srgbClr val="993300"/>
                </a:solidFill>
                <a:latin typeface="Arial"/>
              </a:rPr>
              <a:t>enfermedad lechosa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» en escarábidos, pues su característica más notable es el aspecto lechoso de la hemolinfa de las larvas infectadas, por la gran cantidad de esporas de la bacteria que circulan por ést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es-ES" sz="2500" spc="-1" strike="noStrike">
                <a:solidFill>
                  <a:srgbClr val="993300"/>
                </a:solidFill>
                <a:latin typeface="Arial"/>
              </a:rPr>
              <a:t>importancia histórica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: fue el primer organismo entomopatógeno registrado como bioinsecticida en 1948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La infección de las larvas se produce por ingest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Aunque, al igual que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produce un cuerpo parasporal bipiramidal, no está claro cuál es su papel en el desarrollo de la enfermeda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Una vez ingerida la bacteria, cuando llega al intestino medio, las esporas germinan y se reproducen, iniciándose la infección en el epitelio intestinal que rápidamente pasa a la hemolinf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3300"/>
                </a:solidFill>
                <a:latin typeface="Arial"/>
              </a:rPr>
              <a:t>Bibliografía Bás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Pérez Consuegra, Nilda. 2004. Manejo Ecológico de Plagas. CEDAR. Centro de Estudios de Desarrollo Agrario y Rural. UNAH. La Habana. Cuba. Capítulo VI. Páginas: 199-20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3300"/>
                </a:solidFill>
                <a:latin typeface="Arial"/>
              </a:rPr>
              <a:t>Bibliografía Complementa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SAV. Cuba. Curso de Post Grado sobre control biológico. México.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onible en: http://www.aguascalientes.com.mx/codagea/produce/cursocuba.html.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Contiene los siguientes artículos de 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consult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3300"/>
                </a:solidFill>
                <a:latin typeface="Arial"/>
              </a:rPr>
              <a:t>Bibliografía de Consul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Based Biological Contro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ippc.orst.edu/dir/microbial/Bt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xin Gene Nomenclatu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epunix.biols.susx.ac.uk/Home/Neil_Crickmore/Bt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na alternativa biotecnológica a los insecticidas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aleph.cs.buap.mx/az29/stebaliz.html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assay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www.cabipublishing.org/Bookshop/ReadingRoom/0851994229/4229ch01.pdf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oxin Resourc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www.nal.usda.gov/bic/BTTOX/ Bttoxin.ht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Natural Insecticida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le en: http://www.ag.usask.ca/cofa/departments/hort/hortinfo/pests/bt.html.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ósegui, Orestes; Nieves, Carmen; Díaz, Raysa; Padrón, Noris Bel y Carr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idanet. 2003. Comportamiento del hongo entomopatógeno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Beauveria bassia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Bals.) Vuill. cepa LBB-1 en agar Sabouraud Dextrosa producido en Cub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TOSANIDAD Vol. 7, no. 2. Pp.: 49-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ernández, Eslinda; Fernández-Larrea, Orietta y Núñez, Roberto. 2003. Influencia de los nutrientes sobre la velocidad de crecimiento d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BT-25. FITOSANIDAD Vol. 7, no. 2. Pp.: 43-4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9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993300"/>
                </a:solidFill>
                <a:latin typeface="Arial"/>
              </a:rPr>
              <a:t>Bibliografía de Consul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dación Agroecológica EDAFON. 2007. Control biológico de plagas. Agricultura Orgánica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Monografía. Colombia. Pp.: 1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uerrero, Carmen; Fonseca, María; Castellá, María Isabel y Suárez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sa, 2003. Patogenicidad del hongo 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Metarrhizium anisopliae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obre Bemisia spp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ITOSANIDAD Vol. 7, no. 2. Pp.: 75-7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s Bioplaguicidas en la Agricultura Sostenible Cuban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ponible en: http://www.clades.org/r11-art7.htm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árquez, María E.; Torres, Luis y Escobar, Mercedes. 2003. Evaluación del efecto nematicida de cepas de 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pp. FITOSANIDAD Vol. 7, no. 2. Pp.: 55-58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dríguez, Ana y Castellanos, Leónides. 2002. Dinámica, control biológico y manejo d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iaphania hyalinat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Linné) en el cultivo de la calabaza. Agronat´ 2002. Cienfuegos. Cuba. Pp.: 1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icrobial word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ponible en: http://helios.Bto.ed.ac.uk/Bto/microbes/control.htm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ulta: 22/10/08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Veitía, Marlene; Feitó, Ermita; Benítez, María; García, Víctor e Izquierdo, Deysi. 2003. Evaluación de cepas de 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en el control del ácaro del vaneado del bulbo 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riophyes tulipae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Keifer en el cultivo del ajo (</a:t>
            </a: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Allium sativum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L.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ITOSANIDAD Vol. 7, no. 2. Pp.: 37-4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993300"/>
                </a:solidFill>
                <a:latin typeface="Arial"/>
              </a:rPr>
              <a:t>Objetiv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acterizar las bacterias entomopatógen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cisar las principales etapas de su mecanismo de infec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tacar las principales Familias, géneros y especies con potencialidad en el control microbi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92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92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192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192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92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192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192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192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92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192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192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192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92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192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192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192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993300"/>
                </a:solidFill>
                <a:latin typeface="Arial"/>
              </a:rPr>
              <a:t>Bacterias entomopatógen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Desempeñan un papel protagónico en el control microbial, específicamente </a:t>
            </a:r>
            <a:r>
              <a:rPr b="1" i="1" lang="es-ES" sz="3700" spc="-1" strike="noStrike">
                <a:solidFill>
                  <a:srgbClr val="000000"/>
                </a:solidFill>
                <a:latin typeface="Arial"/>
              </a:rPr>
              <a:t>Bacillus thuringiensis</a:t>
            </a: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 Berliner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Aproximadamente 90 % de las ventas de agentes de control microbiano corresponde a productos que tienen como base esta bacteria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000000"/>
                </a:solidFill>
                <a:latin typeface="Arial"/>
              </a:rPr>
              <a:t>En comparación con otros grupos de entomopatógenos, son pocas las bacterias que provocan algún daño a los insecto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3300"/>
                </a:solidFill>
                <a:latin typeface="Arial"/>
              </a:rPr>
              <a:t>Bacterias Entomopatóg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Organization Chart 3"/>
          <p:cNvGrpSpPr/>
          <p:nvPr/>
        </p:nvGrpSpPr>
        <p:grpSpPr>
          <a:xfrm>
            <a:off x="0" y="907920"/>
            <a:ext cx="9143280" cy="5949000"/>
            <a:chOff x="0" y="907920"/>
            <a:chExt cx="9143280" cy="59490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7383600" y="4974120"/>
              <a:ext cx="618120" cy="3600"/>
            </a:xfrm>
            <a:prstGeom prst="bentConnector3">
              <a:avLst>
                <a:gd name="adj1" fmla="val 18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7" idx="2"/>
            </p:cNvCxnSpPr>
            <p:nvPr/>
          </p:nvCxnSpPr>
          <p:spPr>
            <a:xfrm flipV="1" rot="16200000">
              <a:off x="4264200" y="4974120"/>
              <a:ext cx="618120" cy="3600"/>
            </a:xfrm>
            <a:prstGeom prst="bentConnector3">
              <a:avLst>
                <a:gd name="adj1" fmla="val 18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0"/>
            <p:cNvCxnSpPr>
              <a:stCxn id="54" idx="0"/>
              <a:endCxn id="59" idx="2"/>
            </p:cNvCxnSpPr>
            <p:nvPr/>
          </p:nvCxnSpPr>
          <p:spPr>
            <a:xfrm flipV="1" rot="16200000">
              <a:off x="5823000" y="1227600"/>
              <a:ext cx="617040" cy="3119760"/>
            </a:xfrm>
            <a:prstGeom prst="bentConnector3">
              <a:avLst>
                <a:gd name="adj1" fmla="val 185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1"/>
            <p:cNvCxnSpPr>
              <a:stCxn id="57" idx="0"/>
              <a:endCxn id="59" idx="2"/>
            </p:cNvCxnSpPr>
            <p:nvPr/>
          </p:nvCxnSpPr>
          <p:spPr>
            <a:xfrm flipV="1">
              <a:off x="4572000" y="2479320"/>
              <a:ext cx="3600" cy="61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2"/>
            <p:cNvCxnSpPr>
              <a:stCxn id="62" idx="0"/>
              <a:endCxn id="59" idx="2"/>
            </p:cNvCxnSpPr>
            <p:nvPr/>
          </p:nvCxnSpPr>
          <p:spPr>
            <a:xfrm flipH="1" flipV="1" rot="5400000">
              <a:off x="2703240" y="1227600"/>
              <a:ext cx="617040" cy="3120480"/>
            </a:xfrm>
            <a:prstGeom prst="bentConnector3">
              <a:avLst>
                <a:gd name="adj1" fmla="val 1850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" name="_s1033"/>
            <p:cNvSpPr/>
            <p:nvPr/>
          </p:nvSpPr>
          <p:spPr>
            <a:xfrm>
              <a:off x="3119760" y="907920"/>
              <a:ext cx="2904120" cy="15717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900" spc="-1" strike="noStrike">
                  <a:solidFill>
                    <a:srgbClr val="ff3300"/>
                  </a:solidFill>
                  <a:latin typeface="Tahoma"/>
                </a:rPr>
                <a:t>Daños que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900" spc="-1" strike="noStrike">
                  <a:solidFill>
                    <a:srgbClr val="ff3300"/>
                  </a:solidFill>
                  <a:latin typeface="Tahoma"/>
                </a:rPr>
                <a:t>provocan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900" spc="-1" strike="noStrike">
                  <a:solidFill>
                    <a:srgbClr val="ff3300"/>
                  </a:solidFill>
                  <a:latin typeface="Tahoma"/>
                </a:rPr>
                <a:t>a insecto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4"/>
            <p:cNvSpPr/>
            <p:nvPr/>
          </p:nvSpPr>
          <p:spPr>
            <a:xfrm>
              <a:off x="0" y="3096000"/>
              <a:ext cx="2904120" cy="157176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Arial"/>
                </a:rPr>
                <a:t>Bacteremia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5"/>
            <p:cNvSpPr/>
            <p:nvPr/>
          </p:nvSpPr>
          <p:spPr>
            <a:xfrm>
              <a:off x="3119760" y="3096000"/>
              <a:ext cx="2904120" cy="157176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Arial"/>
                </a:rPr>
                <a:t>Septicemia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6"/>
            <p:cNvSpPr/>
            <p:nvPr/>
          </p:nvSpPr>
          <p:spPr>
            <a:xfrm>
              <a:off x="6239160" y="3096000"/>
              <a:ext cx="2904120" cy="157176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300" spc="-1" strike="noStrike">
                  <a:solidFill>
                    <a:srgbClr val="ffffff"/>
                  </a:solidFill>
                  <a:latin typeface="Arial"/>
                </a:rPr>
                <a:t>Toxemia</a:t>
              </a: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7"/>
            <p:cNvSpPr/>
            <p:nvPr/>
          </p:nvSpPr>
          <p:spPr>
            <a:xfrm>
              <a:off x="3123000" y="5285160"/>
              <a:ext cx="2901240" cy="1571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Bacteria inva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hemocele, se multiplica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produce toxin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y el insecto muere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cede con bacteri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patóge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8"/>
            <p:cNvSpPr/>
            <p:nvPr/>
          </p:nvSpPr>
          <p:spPr>
            <a:xfrm>
              <a:off x="6242040" y="5285160"/>
              <a:ext cx="2901240" cy="1571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Bacteria confinad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al lumen estomac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donde produce toxin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(Tanada y Kaya, 1993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Line 16"/>
          <p:cNvSpPr/>
          <p:nvPr/>
        </p:nvSpPr>
        <p:spPr>
          <a:xfrm>
            <a:off x="76676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1371600" y="4648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137160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0" y="5181480"/>
            <a:ext cx="2819520" cy="1676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cteria se multipl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hemolinfa del ins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n producir toxi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bacterem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atogé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3300"/>
                </a:solidFill>
                <a:latin typeface="Arial"/>
              </a:rPr>
              <a:t>Familia </a:t>
            </a:r>
            <a:r>
              <a:rPr b="1" i="1" lang="es-ES" sz="4400" spc="-1" strike="noStrike">
                <a:solidFill>
                  <a:srgbClr val="993300"/>
                </a:solidFill>
                <a:latin typeface="Arial"/>
              </a:rPr>
              <a:t>Bacillace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Bacterias con células vegetativas alargadas en forma de bastón, Gram positivas y formadoras de endospora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xisten dos géneros con especies entomopatógenas: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Clostridi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Clostridium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es anaeróbico obligado y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es aeróbico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A la célula donde se forma la espora se le denomina «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esporangi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Para algunas especies la formación de la espora va acompañada de la formación de un </a:t>
            </a:r>
            <a:r>
              <a:rPr b="1" lang="es-ES" sz="2500" spc="-1" strike="noStrike">
                <a:solidFill>
                  <a:srgbClr val="009900"/>
                </a:solidFill>
                <a:latin typeface="Arial"/>
              </a:rPr>
              <a:t>cristal proteic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denominado </a:t>
            </a:r>
            <a:r>
              <a:rPr b="1" lang="es-ES" sz="2500" spc="-1" strike="noStrike">
                <a:solidFill>
                  <a:srgbClr val="009900"/>
                </a:solidFill>
                <a:latin typeface="Arial"/>
              </a:rPr>
              <a:t>cuerpo parasporal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que es el responsable de la acción insecticid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l género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es el que mayor potencial presenta en el control microbiano de ins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Sus principales especies son: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. thuringiensi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. sphaericus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500" spc="-1" strike="noStrike">
                <a:solidFill>
                  <a:srgbClr val="000000"/>
                </a:solidFill>
                <a:latin typeface="Arial"/>
              </a:rPr>
              <a:t>B. popillae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(Thiery y Frachon, 1997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1905120"/>
          <a:ext cx="9144000" cy="4632120"/>
        </p:xfrm>
        <a:graphic>
          <a:graphicData uri="http://schemas.openxmlformats.org/drawingml/2006/table">
            <a:tbl>
              <a:tblPr/>
              <a:tblGrid>
                <a:gridCol w="1905120"/>
                <a:gridCol w="2666880"/>
                <a:gridCol w="2209680"/>
                <a:gridCol w="2362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Divi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Fami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Gén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cilicute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Gram -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Pseudomonacea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Pseudomo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P. aerugino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P. fluoresce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Bacillacea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Bacill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alve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larva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Iaterospor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lentimorb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B. popillia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sphaericu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1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B. thuringiens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80 CuadroTexto"/>
          <p:cNvSpPr/>
          <p:nvPr/>
        </p:nvSpPr>
        <p:spPr>
          <a:xfrm>
            <a:off x="1143000" y="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ACTERIAS       ENTOMOPATOG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4:50:41Z</dcterms:created>
  <dc:creator>Walber</dc:creator>
  <dc:description/>
  <dc:language>en-US</dc:language>
  <cp:lastModifiedBy>Mirialys</cp:lastModifiedBy>
  <dcterms:modified xsi:type="dcterms:W3CDTF">2012-05-12T10:12:06Z</dcterms:modified>
  <cp:revision>183</cp:revision>
  <dc:subject/>
  <dc:title>Slide 1</dc:title>
</cp:coreProperties>
</file>